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wmf" ContentType="image/x-wmf"/>
  <Override PartName="/ppt/media/image13.wmf" ContentType="image/x-wmf"/>
  <Override PartName="/ppt/media/image8.wmf" ContentType="image/x-wmf"/>
  <Override PartName="/ppt/media/image12.gif" ContentType="image/gif"/>
  <Override PartName="/ppt/media/image7.gif" ContentType="image/gif"/>
  <Override PartName="/ppt/media/image5.jpeg" ContentType="image/jpeg"/>
  <Override PartName="/ppt/media/image20.wmf" ContentType="image/x-wmf"/>
  <Override PartName="/ppt/media/image6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4.gif" ContentType="image/gif"/>
  <Override PartName="/ppt/media/image16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9F90-D281-4153-A7BA-C2936A80AC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 to Cell Vocabul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ncy Na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 to Cell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ncy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omosomes are inside the nucleus and are made of genes (DN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s decide the cells traits and activities (heart cell, eye cell (color)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inside the nucleus and are made of genes 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decide the cells traits and activities (heart cell, eye cell (color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ar membrane allows substances to pass in and out of the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surrounds the nucleus (the brain) like the turtle’s skull…protects 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ar membrane allows substances to pass in and out of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urrounds the nucleus (the brain) like the turtle’s skull…protect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cuo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cuoles are spaces in the cytoplasm (gel) where food and chemicals are sto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like “fat” on a turt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NOT fat…I’m just a little plump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are spaces in the cytoplasm (gel) where food and chemicals are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like “fat” on a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NOT fat…I’m just a little plump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Walls are only in 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ke the cell strong and rig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like a turtle’s shell (but only plants have them…that’s why grass stands straight up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s are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the cell strong and rig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like a turtle’s shell (but only plants have them…that’s why grass stands straight up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are only in 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ontain chlorophyll, which helps make energy/food from sun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hyll is green in color…so any plant that is green has chloropla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’m green…do I have chloroplas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are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ntain chlorophyll, which helps make energy/food from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is green in color…so any plant that is green has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green…do I have chloroplas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the Differen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 are two things that Plant cells have that animal cells don’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&amp; Cell Wa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Differ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are two things that Plant cells have that animal cells don’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&amp;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ould happen if animals had Chloroplas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animals had Chloroplas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w, let’s review…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Membrane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Wal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Chloropla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romosome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u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ytoplasm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Vacuo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lant/Animal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iatio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Cell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, let’s review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plas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/Anima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Cell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atula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now know all the vocabulary for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atul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ow know all the vocabulary fo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 are the basic unit of all living things…if it is alive it has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the basic unit of all living things…if it is alive it has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“Classes” of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2 classes of cells.  There are only two differences between Plant &amp; Animal cells…try to spot them by the end of the sh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“Classes”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classes of cells.  There are only two differences between Plant &amp; Animal cells…try to spot them by the end of the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Differenti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a heart cell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a skin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’m a Prison Cell! 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fferent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a heart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a ski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a Prison Cell!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you hear the new vocabulary…just think of 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t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ear the new vocabulary…just think of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ll membrane holds the cell together and allows nutrients in the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like a turtle’s sk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ll membrane is on the edge of a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holds the cell together and allows nutrients in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just like a turtle’s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is on the edge of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 is the watery gel (Jello!) inside a cell….it’s goop! It holds the ORGANel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 is like the turtles blood and other liqu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the watery gel (Jello!) inside a cell….it’s goop! It holds the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like the turtles blood and other 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 is an ORGANelle that releases energy from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 is like a turtle’s stomac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 is an ORGANelle that releases energy from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 is like a turtle’s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controls the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is like the turtle’s br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control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is like the turtle’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74CF1-964C-454E-B5F2-03E02C66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963D5-BA07-420C-99D1-4B300B15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E9D23-61C5-431B-B452-766B3C51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1E992-EEB2-43ED-9840-9D18B133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2981-F959-4F4A-93AF-03588EC8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7D41-99DC-4A36-88E8-B0BFC5FF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C36C-7E5E-40E2-909B-98630097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42B6-ECFB-4856-A8E5-C4F6A0FB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06FC-B84B-41D1-9B36-E21E20A4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CDF9-BB1A-446E-8913-0FDF5A8D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50DD-13B3-4461-8775-D232D05F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E61CB-0E34-43DD-802D-C5E072F9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358B-E73A-494B-B52D-A0CAD15E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B214-5F13-4366-A369-9225DDE4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D656-1BF7-4645-85BC-923775B5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3367-9D22-4C4E-A35E-CDE5CE1B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0A64-CA5D-432E-B1A8-FD5B8C1D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2D9D-0238-4A3B-9AF7-E61D1A73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F27F-74B3-47EB-8AEE-696BF555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DD36-C69A-4B0C-AB59-A256F298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36AEB-5E08-477D-AEC4-A78DBCED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C96DE-DCF7-4866-8CB9-EA75C2C0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BA69-787C-468D-A942-F14424D7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E9316-D720-44A9-9896-3F26F781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1584-CDCC-42A9-BD77-855E111F23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421A-4161-4AB7-914E-0DB0FC3B68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image" Target="../media/image5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Intro to Cell Vocabula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ncy N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ple T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romosom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mosomes are inside the nucleus and are made of genes (D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s decide the cells traits and activities (heart cell, eye cell (color)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bd20088_"/>
          <p:cNvPicPr/>
          <p:nvPr/>
        </p:nvPicPr>
        <p:blipFill>
          <a:blip r:embed="rId1"/>
          <a:stretch/>
        </p:blipFill>
        <p:spPr>
          <a:xfrm>
            <a:off x="1447920" y="39625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2666880" y="4724280"/>
            <a:ext cx="1600200" cy="486000"/>
          </a:xfrm>
          <a:prstGeom prst="rightArrow">
            <a:avLst>
              <a:gd name="adj1" fmla="val 50000"/>
              <a:gd name="adj2" fmla="val 8231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6" descr="j0280748"/>
          <p:cNvPicPr/>
          <p:nvPr/>
        </p:nvPicPr>
        <p:blipFill>
          <a:blip r:embed="rId2"/>
          <a:stretch/>
        </p:blipFill>
        <p:spPr>
          <a:xfrm>
            <a:off x="4267080" y="4267080"/>
            <a:ext cx="1460520" cy="13734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7"/>
          <p:cNvSpPr/>
          <p:nvPr/>
        </p:nvSpPr>
        <p:spPr>
          <a:xfrm>
            <a:off x="5715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8" descr="j0403997"/>
          <p:cNvPicPr/>
          <p:nvPr/>
        </p:nvPicPr>
        <p:blipFill>
          <a:blip r:embed="rId3"/>
          <a:stretch/>
        </p:blipFill>
        <p:spPr>
          <a:xfrm>
            <a:off x="6858000" y="434340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uclear Membra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ar membrane allows substances to pass in and out of the nucl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surrounds the nucleus (the brain) like the turtle’s skull…protects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bd20088_"/>
          <p:cNvPicPr/>
          <p:nvPr/>
        </p:nvPicPr>
        <p:blipFill>
          <a:blip r:embed="rId1"/>
          <a:stretch/>
        </p:blipFill>
        <p:spPr>
          <a:xfrm>
            <a:off x="990720" y="403848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/>
          <p:cNvSpPr/>
          <p:nvPr/>
        </p:nvSpPr>
        <p:spPr>
          <a:xfrm>
            <a:off x="2209680" y="4952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6" descr="j0133451"/>
          <p:cNvPicPr/>
          <p:nvPr/>
        </p:nvPicPr>
        <p:blipFill>
          <a:blip r:embed="rId2"/>
          <a:stretch/>
        </p:blipFill>
        <p:spPr>
          <a:xfrm>
            <a:off x="6400800" y="3581280"/>
            <a:ext cx="1700280" cy="30099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acuol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cuoles are spaces in the cytoplasm (gel) where food and chemicals are sto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like “fat” on a tur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4" descr="PH03447I"/>
          <p:cNvPicPr/>
          <p:nvPr/>
        </p:nvPicPr>
        <p:blipFill>
          <a:blip r:embed="rId1"/>
          <a:stretch/>
        </p:blipFill>
        <p:spPr>
          <a:xfrm>
            <a:off x="1676520" y="3657600"/>
            <a:ext cx="3657600" cy="246204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6"/>
          <p:cNvSpPr/>
          <p:nvPr/>
        </p:nvSpPr>
        <p:spPr>
          <a:xfrm>
            <a:off x="5562720" y="2971800"/>
            <a:ext cx="2438280" cy="2438280"/>
          </a:xfrm>
          <a:prstGeom prst="cloudCallout">
            <a:avLst>
              <a:gd name="adj1" fmla="val -133527"/>
              <a:gd name="adj2" fmla="val 3248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715000" y="35812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NOT fat…I’m just a little plump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8" descr="bd20088_"/>
          <p:cNvPicPr/>
          <p:nvPr/>
        </p:nvPicPr>
        <p:blipFill>
          <a:blip r:embed="rId2"/>
          <a:stretch/>
        </p:blipFill>
        <p:spPr>
          <a:xfrm>
            <a:off x="7620120" y="228600"/>
            <a:ext cx="1214280" cy="12952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9"/>
          <p:cNvSpPr/>
          <p:nvPr/>
        </p:nvSpPr>
        <p:spPr>
          <a:xfrm>
            <a:off x="6934320" y="533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Wal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Walls are only in plant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make the cell strong and rig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like a turtle’s shell (but only plants have them…that’s why grass stands straight up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4" descr="j0111472"/>
          <p:cNvPicPr/>
          <p:nvPr/>
        </p:nvPicPr>
        <p:blipFill>
          <a:blip r:embed="rId1"/>
          <a:stretch/>
        </p:blipFill>
        <p:spPr>
          <a:xfrm>
            <a:off x="3352680" y="4495680"/>
            <a:ext cx="1989360" cy="1528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bd20088_"/>
          <p:cNvPicPr/>
          <p:nvPr/>
        </p:nvPicPr>
        <p:blipFill>
          <a:blip r:embed="rId2"/>
          <a:stretch/>
        </p:blipFill>
        <p:spPr>
          <a:xfrm>
            <a:off x="7684920" y="228600"/>
            <a:ext cx="1459080" cy="155736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/>
          <p:cNvSpPr/>
          <p:nvPr/>
        </p:nvSpPr>
        <p:spPr>
          <a:xfrm>
            <a:off x="6781680" y="762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loroplast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oplasts are only in plant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ontain chlorophyll, which helps make energy/food from sunl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ophyll is green in color…so any plant that is green has chloropla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4" descr="j0140649"/>
          <p:cNvPicPr/>
          <p:nvPr/>
        </p:nvPicPr>
        <p:blipFill>
          <a:blip r:embed="rId1"/>
          <a:stretch/>
        </p:blipFill>
        <p:spPr>
          <a:xfrm>
            <a:off x="4419720" y="4648320"/>
            <a:ext cx="3076560" cy="151920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5"/>
          <p:cNvSpPr/>
          <p:nvPr/>
        </p:nvSpPr>
        <p:spPr>
          <a:xfrm>
            <a:off x="609480" y="4648320"/>
            <a:ext cx="2667240" cy="2209680"/>
          </a:xfrm>
          <a:prstGeom prst="cloudCallout">
            <a:avLst>
              <a:gd name="adj1" fmla="val 93273"/>
              <a:gd name="adj2" fmla="val -3412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762120" y="50292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m green…do I have chloroplast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7" descr="bd20088_"/>
          <p:cNvPicPr/>
          <p:nvPr/>
        </p:nvPicPr>
        <p:blipFill>
          <a:blip r:embed="rId2"/>
          <a:stretch/>
        </p:blipFill>
        <p:spPr>
          <a:xfrm>
            <a:off x="7226280" y="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8"/>
          <p:cNvSpPr/>
          <p:nvPr/>
        </p:nvSpPr>
        <p:spPr>
          <a:xfrm>
            <a:off x="6629400" y="228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’s the Difference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what are two things that Plant cells have that animal cells don’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4" descr="j0149627"/>
          <p:cNvPicPr/>
          <p:nvPr/>
        </p:nvPicPr>
        <p:blipFill>
          <a:blip r:embed="rId1"/>
          <a:stretch/>
        </p:blipFill>
        <p:spPr>
          <a:xfrm>
            <a:off x="5486400" y="312408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0281904"/>
          <p:cNvPicPr/>
          <p:nvPr/>
        </p:nvPicPr>
        <p:blipFill>
          <a:blip r:embed="rId2"/>
          <a:stretch/>
        </p:blipFill>
        <p:spPr>
          <a:xfrm>
            <a:off x="1219320" y="3200400"/>
            <a:ext cx="1825560" cy="1725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4280400" y="380988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143000" y="5334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loroplasts &amp; Cell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would happen if animals had Chloroplasts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4" descr="j0149627"/>
          <p:cNvPicPr/>
          <p:nvPr/>
        </p:nvPicPr>
        <p:blipFill>
          <a:blip r:embed="rId1"/>
          <a:stretch/>
        </p:blipFill>
        <p:spPr>
          <a:xfrm>
            <a:off x="3305160" y="2529000"/>
            <a:ext cx="2533680" cy="18000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ow, let’s review…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Membra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Wa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loropla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mosom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ar Membr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Vacu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/Anim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4" descr="bd20088_"/>
          <p:cNvPicPr/>
          <p:nvPr/>
        </p:nvPicPr>
        <p:blipFill>
          <a:blip r:embed="rId1"/>
          <a:stretch/>
        </p:blipFill>
        <p:spPr>
          <a:xfrm>
            <a:off x="1295280" y="4343400"/>
            <a:ext cx="1917720" cy="2046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bd07865_"/>
          <p:cNvPicPr/>
          <p:nvPr/>
        </p:nvPicPr>
        <p:blipFill>
          <a:blip r:embed="rId2"/>
          <a:stretch/>
        </p:blipFill>
        <p:spPr>
          <a:xfrm>
            <a:off x="5638680" y="4572000"/>
            <a:ext cx="2286000" cy="18730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gratulation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now know all the vocabulary for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4" descr="j0136827"/>
          <p:cNvPicPr/>
          <p:nvPr/>
        </p:nvPicPr>
        <p:blipFill>
          <a:blip r:embed="rId1"/>
          <a:stretch/>
        </p:blipFill>
        <p:spPr>
          <a:xfrm>
            <a:off x="3657600" y="2209680"/>
            <a:ext cx="2568600" cy="42674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are the basic unit of all living things…if it is alive it has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j0390229"/>
          <p:cNvPicPr/>
          <p:nvPr/>
        </p:nvPicPr>
        <p:blipFill>
          <a:blip r:embed="rId1"/>
          <a:stretch/>
        </p:blipFill>
        <p:spPr>
          <a:xfrm>
            <a:off x="457200" y="3276720"/>
            <a:ext cx="3657600" cy="260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j0390218"/>
          <p:cNvPicPr/>
          <p:nvPr/>
        </p:nvPicPr>
        <p:blipFill>
          <a:blip r:embed="rId2"/>
          <a:stretch/>
        </p:blipFill>
        <p:spPr>
          <a:xfrm>
            <a:off x="4495680" y="3276720"/>
            <a:ext cx="3657600" cy="2609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wo “Classes” of Cel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2 classes of cells.  There are only two differences between Plant &amp; Animal cells…try to spot them by the end of the s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72400" y="3809880"/>
            <a:ext cx="18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647320" y="388620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mal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8" descr="j0281904"/>
          <p:cNvPicPr/>
          <p:nvPr/>
        </p:nvPicPr>
        <p:blipFill>
          <a:blip r:embed="rId1"/>
          <a:stretch/>
        </p:blipFill>
        <p:spPr>
          <a:xfrm>
            <a:off x="1447920" y="464832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j0149627"/>
          <p:cNvPicPr/>
          <p:nvPr/>
        </p:nvPicPr>
        <p:blipFill>
          <a:blip r:embed="rId2"/>
          <a:stretch/>
        </p:blipFill>
        <p:spPr>
          <a:xfrm>
            <a:off x="5715000" y="4572000"/>
            <a:ext cx="2533680" cy="180036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Differenti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j0390229"/>
          <p:cNvPicPr/>
          <p:nvPr/>
        </p:nvPicPr>
        <p:blipFill>
          <a:blip r:embed="rId1"/>
          <a:stretch/>
        </p:blipFill>
        <p:spPr>
          <a:xfrm>
            <a:off x="533520" y="5029200"/>
            <a:ext cx="2133360" cy="1522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j0390235"/>
          <p:cNvPicPr/>
          <p:nvPr/>
        </p:nvPicPr>
        <p:blipFill>
          <a:blip r:embed="rId2"/>
          <a:stretch/>
        </p:blipFill>
        <p:spPr>
          <a:xfrm>
            <a:off x="3962520" y="5029200"/>
            <a:ext cx="1981080" cy="141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j0287178"/>
          <p:cNvPicPr/>
          <p:nvPr/>
        </p:nvPicPr>
        <p:blipFill>
          <a:blip r:embed="rId3"/>
          <a:stretch/>
        </p:blipFill>
        <p:spPr>
          <a:xfrm>
            <a:off x="6781680" y="5181480"/>
            <a:ext cx="1676520" cy="13654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7"/>
          <p:cNvSpPr/>
          <p:nvPr/>
        </p:nvSpPr>
        <p:spPr>
          <a:xfrm>
            <a:off x="533520" y="3352680"/>
            <a:ext cx="1828800" cy="1067040"/>
          </a:xfrm>
          <a:prstGeom prst="wedgeRectCallout">
            <a:avLst>
              <a:gd name="adj1" fmla="val 11458"/>
              <a:gd name="adj2" fmla="val 12574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a heart cell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3886200" y="3505320"/>
            <a:ext cx="1752480" cy="1523880"/>
          </a:xfrm>
          <a:prstGeom prst="wedgeRoundRectCallout">
            <a:avLst>
              <a:gd name="adj1" fmla="val 5976"/>
              <a:gd name="adj2" fmla="val 772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a skin c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629400" y="3429000"/>
            <a:ext cx="1600200" cy="1676520"/>
          </a:xfrm>
          <a:prstGeom prst="wedgeEllipseCallout">
            <a:avLst>
              <a:gd name="adj1" fmla="val 15277"/>
              <a:gd name="adj2" fmla="val 8674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m a Prison Cell!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When you hear the new vocabulary…just think of 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505320" y="41148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Turtl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8" descr="j0354431"/>
          <p:cNvPicPr/>
          <p:nvPr/>
        </p:nvPicPr>
        <p:blipFill>
          <a:blip r:embed="rId1"/>
          <a:stretch/>
        </p:blipFill>
        <p:spPr>
          <a:xfrm>
            <a:off x="5943600" y="4191120"/>
            <a:ext cx="2286000" cy="1071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Membra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cell membrane holds the cell together and allows nutrients in the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’s just like a turtle’s sk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cell membrane is on the edge of a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bd07865_"/>
          <p:cNvPicPr/>
          <p:nvPr/>
        </p:nvPicPr>
        <p:blipFill>
          <a:blip r:embed="rId1"/>
          <a:stretch/>
        </p:blipFill>
        <p:spPr>
          <a:xfrm>
            <a:off x="762120" y="3962520"/>
            <a:ext cx="1812960" cy="1485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bd20088_"/>
          <p:cNvPicPr/>
          <p:nvPr/>
        </p:nvPicPr>
        <p:blipFill>
          <a:blip r:embed="rId2"/>
          <a:stretch/>
        </p:blipFill>
        <p:spPr>
          <a:xfrm>
            <a:off x="3657600" y="37339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7"/>
          <p:cNvSpPr/>
          <p:nvPr/>
        </p:nvSpPr>
        <p:spPr>
          <a:xfrm rot="19557600">
            <a:off x="5105520" y="3581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11073 C 0.00416 0.11165 0.00677 0.11165 0.00868 0.11373 C 0.01666 0.12228 0.01006 0.12552 0.01527 0.13731 C 0.01788 0.14355 0.02691 0.14471 0.0309 0.14632 C 0.03836 0.14933 0.04548 0.15257 0.05312 0.15511 C 0.06024 0.16158 0.06597 0.16944 0.07309 0.17591 C 0.07465 0.17984 0.07586 0.184 0.0776 0.1877 C 0.08038 0.19371 0.08645 0.2055 0.08645 0.2055 C 0.10954 0.20435 0.15243 0.20989 0.1776 0.19371 C 0.19652 0.15904 0.17187 0.20781 0.18645 0.16412 C 0.18958 0.15441 0.19965 0.14933 0.20642 0.14632 C 0.22586 0.15002 0.22864 0.1484 0.23975 0.1699 C 0.24045 0.17476 0.2401 0.1803 0.24201 0.1847 C 0.25017 0.20435 0.27274 0.20342 0.28645 0.2055 C 0.29704 0.21475 0.30312 0.22792 0.31302 0.23809 C 0.32083 0.26352 0.3368 0.28433 0.35746 0.29126 C 0.39774 0.27924 0.36163 0.29288 0.38871 0.27647 C 0.40277 0.26791 0.41267 0.26514 0.42204 0.24688 C 0.43125 0.20943 0.42621 0.23532 0.42864 0.1669 C 0.43125 0.18054 0.43576 0.19232 0.43975 0.2055 C 0.44114 0.2374 0.4401 0.26514 0.44861 0.29427 C 0.47309 0.27785 0.45034 0.29034 0.4842 0.28248 C 0.48958 0.28132 0.49444 0.27762 0.49982 0.27647 C 0.50781 0.27462 0.51597 0.27439 0.52413 0.27346 C 0.5375 0.26745 0.52413 0.273 0.54427 0.26768 C 0.55885 0.26398 0.57135 0.25821 0.58645 0.25566 C 0.59531 0.25196 0.60121 0.24549 0.60868 0.23809 C 0.61527 0.22492 0.62118 0.21336 0.62638 0.19949 C 0.62725 0.19371 0.63038 0.1706 0.63316 0.1669 C 0.63923 0.15881 0.64566 0.14933 0.65086 0.14031 C 0.66805 0.11049 0.65191 0.13245 0.66649 0.11373 C 0.6684 0.09986 0.66961 0.09246 0.67534 0.08114 C 0.67604 0.07235 0.6776 0.06357 0.6776 0.05455 C 0.6776 0.05155 0.67534 0.06334 0.67534 0.06334 L 0.68194 0.03976 E">
                                      <p:cBhvr>
                                        <p:cTn id="18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ytoplas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 is the watery gel (Jello!) inside a cell….it’s goop! It holds the ORGANel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 is like the turtles blood and other liqu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bd20088_"/>
          <p:cNvPicPr/>
          <p:nvPr/>
        </p:nvPicPr>
        <p:blipFill>
          <a:blip r:embed="rId1"/>
          <a:stretch/>
        </p:blipFill>
        <p:spPr>
          <a:xfrm>
            <a:off x="838080" y="4038480"/>
            <a:ext cx="1917720" cy="2046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j0111474"/>
          <p:cNvPicPr/>
          <p:nvPr/>
        </p:nvPicPr>
        <p:blipFill>
          <a:blip r:embed="rId2"/>
          <a:stretch/>
        </p:blipFill>
        <p:spPr>
          <a:xfrm>
            <a:off x="6858000" y="4267080"/>
            <a:ext cx="1158840" cy="18288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6"/>
          <p:cNvSpPr/>
          <p:nvPr/>
        </p:nvSpPr>
        <p:spPr>
          <a:xfrm>
            <a:off x="1676520" y="4267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52 0.08437 C -0.07518 0.07836 -0.12274 0.05779 -0.17222 0.05178 C -0.23004 0.03606 -0.27483 0.04161 -0.34115 0.03999 C -0.37084 0.03421 -0.4 0.02843 -0.43004 0.02519 C -0.45972 0.02219 -0.4717 0.02219 -0.45886 0.02219 L -0.4434 0.02519 E">
                                      <p:cBhvr>
                                        <p:cTn id="24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itochondri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 is an ORGANelle that releases energy from f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 is like a turtle’s stom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j0382565"/>
          <p:cNvPicPr/>
          <p:nvPr/>
        </p:nvPicPr>
        <p:blipFill>
          <a:blip r:embed="rId1"/>
          <a:stretch/>
        </p:blipFill>
        <p:spPr>
          <a:xfrm>
            <a:off x="6324480" y="4876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AG00441_"/>
          <p:cNvPicPr/>
          <p:nvPr/>
        </p:nvPicPr>
        <p:blipFill>
          <a:blip r:embed="rId2"/>
          <a:stretch/>
        </p:blipFill>
        <p:spPr>
          <a:xfrm>
            <a:off x="3581280" y="5208480"/>
            <a:ext cx="3276720" cy="1649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bd20088_"/>
          <p:cNvPicPr/>
          <p:nvPr/>
        </p:nvPicPr>
        <p:blipFill>
          <a:blip r:embed="rId3"/>
          <a:stretch/>
        </p:blipFill>
        <p:spPr>
          <a:xfrm>
            <a:off x="7226280" y="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8"/>
          <p:cNvSpPr/>
          <p:nvPr/>
        </p:nvSpPr>
        <p:spPr>
          <a:xfrm>
            <a:off x="8077320" y="16765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ucleu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controls the c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is like the turtle’s 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4" descr="j0133537"/>
          <p:cNvPicPr/>
          <p:nvPr/>
        </p:nvPicPr>
        <p:blipFill>
          <a:blip r:embed="rId1"/>
          <a:stretch/>
        </p:blipFill>
        <p:spPr>
          <a:xfrm rot="1524000">
            <a:off x="304920" y="3886200"/>
            <a:ext cx="2412720" cy="2166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j0395712"/>
          <p:cNvPicPr/>
          <p:nvPr/>
        </p:nvPicPr>
        <p:blipFill>
          <a:blip r:embed="rId2"/>
          <a:stretch/>
        </p:blipFill>
        <p:spPr>
          <a:xfrm rot="251400">
            <a:off x="2819160" y="4419360"/>
            <a:ext cx="1523880" cy="1258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j0390235"/>
          <p:cNvPicPr/>
          <p:nvPr/>
        </p:nvPicPr>
        <p:blipFill>
          <a:blip r:embed="rId3"/>
          <a:stretch/>
        </p:blipFill>
        <p:spPr>
          <a:xfrm>
            <a:off x="6324480" y="380880"/>
            <a:ext cx="2362320" cy="1685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bd20088_"/>
          <p:cNvPicPr/>
          <p:nvPr/>
        </p:nvPicPr>
        <p:blipFill>
          <a:blip r:embed="rId4"/>
          <a:stretch/>
        </p:blipFill>
        <p:spPr>
          <a:xfrm>
            <a:off x="6172200" y="37339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8"/>
          <p:cNvSpPr/>
          <p:nvPr/>
        </p:nvSpPr>
        <p:spPr>
          <a:xfrm rot="929400">
            <a:off x="6095520" y="43430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22:02:06Z</dcterms:created>
  <dc:creator>Mr. Ryan</dc:creator>
  <dc:description/>
  <dc:language>en-US</dc:language>
  <cp:lastModifiedBy>LEGION2</cp:lastModifiedBy>
  <dcterms:modified xsi:type="dcterms:W3CDTF">2016-01-11T13:01:50Z</dcterms:modified>
  <cp:revision>19</cp:revision>
  <dc:subject/>
  <dc:title>Intro to Cell Vocabulary</dc:title>
</cp:coreProperties>
</file>